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0DFB-014A-4AD0-B6FF-6C8EB5E45A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57AC-855F-422C-B2C1-F7C94BD973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6D9-DBB8-4BF1-807F-16342010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B729-2F16-45EA-9D68-35AC86F6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3E7-A8EB-4C07-B17D-E74C2801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1C9-1159-4D5B-A06C-48AD9396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E1F7-B15C-4933-AEA7-BEE494AC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A1DC-89CE-46E9-A7EE-66D50E09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2CD3-AC87-48E2-A17F-AC63026D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C549-B74E-44B9-A97B-63AB0B8E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DE2A-DB4A-46F9-AB8C-4FA9A3FB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0EC6-DA36-4B03-ABD0-3F32602D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AED4-2243-4B11-AC38-B5CF44CA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8D5-9204-43FD-BFAF-E5DDD0CA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FBFA-2D91-41EF-BBC3-9E2D7005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5570-8097-4C77-BB6A-864B6F8B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F924-04CD-412E-85BF-B3700F98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84E2-AEC5-4195-B3E4-4E9B8503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8998-A52F-4CF7-BFD8-6014D5BC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57FE-DB92-435A-9609-9D62AC53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2211F-E7A1-4AF7-9D22-14F064CC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00447-8F86-4AD4-B3AE-00B1F6DC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CBF3-13C2-4C61-B7D2-0A5DDFAC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D6135-2F56-4440-BF0D-25A04D6B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5BF-408A-4986-AF88-61357E01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94D04-8166-45C8-BFDA-B9426A64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C2EB5-28D5-4649-A4C6-17E2A9BA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63B6-00AD-479D-8AA8-F8210C6E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D2994-9B60-4ED2-982A-7C660EF9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A5230-90C5-4C02-9201-69E1379F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549CC-64E4-49C1-80F6-B1BF9250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64E48-A175-4898-947E-558F2575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F980A-3B22-49A7-81DC-3D8FF816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645BD-9CAB-45DC-9DC4-0603EFFF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A99A-B858-4DEE-AAAD-BBD8B322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36CB-5CC4-43D2-8A15-4BEC6FCB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9CDBE-7863-427A-B384-3C77A161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5E6D-45D8-4648-8813-1DEA2042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61627-233D-4009-84B2-78D2D74F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10CC9-E015-49D4-8366-CB86F21E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8E3FE-9A71-42B9-8C2A-78E14013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A034A-898C-4AD1-9430-B364DA33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ED9A1-5643-4CE2-820D-DBB5861B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2A5C-C3FB-45D5-814E-C9B56DA2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0CD94-D9FC-46A6-8F22-CA362B8E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A0E-62CE-4D75-898A-2B29790F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599-2B7E-49E9-AD2C-75D8E3B6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D1E-0D4B-429F-859B-164AD70D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379-AABB-4D0E-9FD1-D644B602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398-A841-42D9-9F6A-45DB5B4F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8304-F751-42DF-807A-E7AA95BFE7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EB61-FC66-4A43-AF9B-2B3C75D7DE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918D-BFC1-446B-8871-7313490C47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2FC7-03EA-48D2-80B0-9784DFB576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PICT000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71600" y="285840"/>
            <a:ext cx="4614840" cy="62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c00000"/>
                </a:solidFill>
                <a:latin typeface="Calibri"/>
              </a:rPr>
              <a:t>Это наша земля!</a:t>
            </a:r>
            <a:br>
              <a:rPr sz="8600"/>
            </a:br>
            <a:r>
              <a:rPr b="1" lang="ru-RU" sz="8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готовила учитель географ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МОУ «СОШ №7 г. Коряжмы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Гладкова Татьяна Алексеевна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500280" y="213840"/>
            <a:ext cx="51436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PICT0352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аргоп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0" descr="Картинка 9 из 20635"/>
          <p:cNvPicPr/>
          <p:nvPr/>
        </p:nvPicPr>
        <p:blipFill>
          <a:blip r:embed="rId2"/>
          <a:stretch/>
        </p:blipFill>
        <p:spPr>
          <a:xfrm>
            <a:off x="285840" y="1500120"/>
            <a:ext cx="4286160" cy="5168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http://im1-tub-ru.yandex.net/i?id=afdb9d13d8b8e959ca7c39c6bfff353f-88-144&amp;n=21"/>
          <p:cNvPicPr/>
          <p:nvPr/>
        </p:nvPicPr>
        <p:blipFill>
          <a:blip r:embed="rId3"/>
          <a:stretch/>
        </p:blipFill>
        <p:spPr>
          <a:xfrm>
            <a:off x="4643280" y="1500120"/>
            <a:ext cx="4286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6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ельс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11" descr="Картинка 23 из 12758"/>
          <p:cNvPicPr/>
          <p:nvPr/>
        </p:nvPicPr>
        <p:blipFill>
          <a:blip r:embed="rId1"/>
          <a:stretch/>
        </p:blipFill>
        <p:spPr>
          <a:xfrm>
            <a:off x="4572000" y="1484280"/>
            <a:ext cx="4176720" cy="2232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Картинка 10 из 12758"/>
          <p:cNvPicPr/>
          <p:nvPr/>
        </p:nvPicPr>
        <p:blipFill>
          <a:blip r:embed="rId2"/>
          <a:stretch/>
        </p:blipFill>
        <p:spPr>
          <a:xfrm>
            <a:off x="4643280" y="3860640"/>
            <a:ext cx="4032360" cy="2770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http://im1-tub-ru.yandex.net/i?id=19b8a4bd6ae5d23fb4fd891473b3c9a7-42-144&amp;n=21"/>
          <p:cNvPicPr/>
          <p:nvPr/>
        </p:nvPicPr>
        <p:blipFill>
          <a:blip r:embed="rId3"/>
          <a:stretch/>
        </p:blipFill>
        <p:spPr>
          <a:xfrm>
            <a:off x="714240" y="1285920"/>
            <a:ext cx="3357720" cy="27147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im3-tub-ru.yandex.net/i?id=f2e19d08c858c530e950b02f01f442f2-114-144&amp;n=21"/>
          <p:cNvPicPr/>
          <p:nvPr/>
        </p:nvPicPr>
        <p:blipFill>
          <a:blip r:embed="rId4"/>
          <a:stretch/>
        </p:blipFill>
        <p:spPr>
          <a:xfrm>
            <a:off x="500040" y="4071960"/>
            <a:ext cx="378612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43680" y="103320"/>
            <a:ext cx="3543120" cy="116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Шенкурс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403848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3903480"/>
            <a:ext cx="403848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3" descr="Картинка 207 из 3775"/>
          <p:cNvPicPr/>
          <p:nvPr/>
        </p:nvPicPr>
        <p:blipFill>
          <a:blip r:embed="rId1"/>
          <a:stretch/>
        </p:blipFill>
        <p:spPr>
          <a:xfrm>
            <a:off x="468360" y="3071880"/>
            <a:ext cx="4103640" cy="359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Картинка 294 из 3775"/>
          <p:cNvPicPr/>
          <p:nvPr/>
        </p:nvPicPr>
        <p:blipFill>
          <a:blip r:embed="rId2"/>
          <a:stretch/>
        </p:blipFill>
        <p:spPr>
          <a:xfrm>
            <a:off x="714240" y="285840"/>
            <a:ext cx="3676680" cy="2595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Город Шенкурск"/>
          <p:cNvPicPr/>
          <p:nvPr/>
        </p:nvPicPr>
        <p:blipFill>
          <a:blip r:embed="rId3"/>
          <a:stretch/>
        </p:blipFill>
        <p:spPr>
          <a:xfrm>
            <a:off x="4643280" y="1500120"/>
            <a:ext cx="4286520" cy="51436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PICT02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Calibri"/>
              </a:rPr>
              <a:t>Это наша земля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pr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е число населения (перепись 2010год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228 056 чел.в т.ч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Архангельске – 355 5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веродвинске – 193 04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тласе – 73 44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водвинске – 40 57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яжме – 39 5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рный - 30 13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льск - 23 8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ргополь - 10 1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театр 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1116000" y="54450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Среди всего населения русских – 99,9 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4714560"/>
            <a:ext cx="914400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Население коренной национальности (ненцы) – 6,2 тыс. челове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1" descr="PICT0089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4200" y="-357120"/>
            <a:ext cx="8715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став Архангельской области входят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нецкий автономный округ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9 административных районов,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7 городских округов(Новая Земля)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4 городских пос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1987560"/>
          <a:ext cx="8929800" cy="4870440"/>
        </p:xfrm>
        <a:graphic>
          <a:graphicData uri="http://schemas.openxmlformats.org/drawingml/2006/table">
            <a:tbl>
              <a:tblPr/>
              <a:tblGrid>
                <a:gridCol w="4429080"/>
                <a:gridCol w="4500720"/>
              </a:tblGrid>
              <a:tr h="48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Архангельск, 158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гополь,1776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ега, 1780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ьск, 17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нкурск, 17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зень, 17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ьвычегодск,17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Котлас, 191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ьян-Мар, 193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Северодвинск, 193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яндома, 1939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ирный, 196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Новодвинск, 197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Коряжма, 19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дминистративным центром области является </a:t>
            </a: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город Архангельск.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7" descr="Город Архангельск"/>
          <p:cNvPicPr/>
          <p:nvPr/>
        </p:nvPicPr>
        <p:blipFill>
          <a:blip r:embed="rId1"/>
          <a:stretch/>
        </p:blipFill>
        <p:spPr>
          <a:xfrm>
            <a:off x="285840" y="1500120"/>
            <a:ext cx="3571920" cy="2571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Нулевая Верста"/>
          <p:cNvPicPr/>
          <p:nvPr/>
        </p:nvPicPr>
        <p:blipFill>
          <a:blip r:embed="rId2"/>
          <a:stretch/>
        </p:blipFill>
        <p:spPr>
          <a:xfrm>
            <a:off x="5643720" y="285840"/>
            <a:ext cx="3228840" cy="214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Скульптура Налим Малиныч"/>
          <p:cNvPicPr/>
          <p:nvPr/>
        </p:nvPicPr>
        <p:blipFill>
          <a:blip r:embed="rId3"/>
          <a:stretch/>
        </p:blipFill>
        <p:spPr>
          <a:xfrm>
            <a:off x="4000680" y="2214720"/>
            <a:ext cx="3286080" cy="214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Город Архангельск"/>
          <p:cNvPicPr/>
          <p:nvPr/>
        </p:nvPicPr>
        <p:blipFill>
          <a:blip r:embed="rId4"/>
          <a:stretch/>
        </p:blipFill>
        <p:spPr>
          <a:xfrm>
            <a:off x="214200" y="3857760"/>
            <a:ext cx="3286080" cy="2619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Архангельск - вид с высоты"/>
          <p:cNvPicPr/>
          <p:nvPr/>
        </p:nvPicPr>
        <p:blipFill>
          <a:blip r:embed="rId5"/>
          <a:stretch/>
        </p:blipFill>
        <p:spPr>
          <a:xfrm>
            <a:off x="5429160" y="4286160"/>
            <a:ext cx="34290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46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Северодвинс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11" descr="Город Северодвинск"/>
          <p:cNvPicPr/>
          <p:nvPr/>
        </p:nvPicPr>
        <p:blipFill>
          <a:blip r:embed="rId1"/>
          <a:stretch/>
        </p:blipFill>
        <p:spPr>
          <a:xfrm>
            <a:off x="285840" y="785880"/>
            <a:ext cx="4357440" cy="2857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Мост влюблённых"/>
          <p:cNvPicPr/>
          <p:nvPr/>
        </p:nvPicPr>
        <p:blipFill>
          <a:blip r:embed="rId2"/>
          <a:stretch/>
        </p:blipFill>
        <p:spPr>
          <a:xfrm>
            <a:off x="4929120" y="214200"/>
            <a:ext cx="3834000" cy="3071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Улица Ломоносова"/>
          <p:cNvPicPr/>
          <p:nvPr/>
        </p:nvPicPr>
        <p:blipFill>
          <a:blip r:embed="rId3"/>
          <a:stretch/>
        </p:blipFill>
        <p:spPr>
          <a:xfrm>
            <a:off x="4714920" y="385776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http://im2-tub-ru.yandex.net/i?id=8f0fc256ed6187f97ba3f991fef04b2b-79-144&amp;n=21"/>
          <p:cNvPicPr/>
          <p:nvPr/>
        </p:nvPicPr>
        <p:blipFill>
          <a:blip r:embed="rId4"/>
          <a:stretch/>
        </p:blipFill>
        <p:spPr>
          <a:xfrm>
            <a:off x="357120" y="378612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арьян-М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7" descr="Город Нарьян-Мар"/>
          <p:cNvPicPr/>
          <p:nvPr/>
        </p:nvPicPr>
        <p:blipFill>
          <a:blip r:embed="rId1"/>
          <a:stretch/>
        </p:blipFill>
        <p:spPr>
          <a:xfrm>
            <a:off x="357120" y="4000680"/>
            <a:ext cx="3786120" cy="2571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http://im2-tub-ru.yandex.net/i?id=e54289ed215262a73f159c9646d66679-37-144&amp;n=21"/>
          <p:cNvPicPr/>
          <p:nvPr/>
        </p:nvPicPr>
        <p:blipFill>
          <a:blip r:embed="rId2"/>
          <a:stretch/>
        </p:blipFill>
        <p:spPr>
          <a:xfrm>
            <a:off x="5286240" y="4357800"/>
            <a:ext cx="3643560" cy="2286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http://im1-tub-ru.yandex.net/i?id=0aba47b203670b2eaf98ee37079de251-138-144&amp;n=21"/>
          <p:cNvPicPr/>
          <p:nvPr/>
        </p:nvPicPr>
        <p:blipFill>
          <a:blip r:embed="rId3"/>
          <a:stretch/>
        </p:blipFill>
        <p:spPr>
          <a:xfrm>
            <a:off x="5072040" y="214200"/>
            <a:ext cx="3781440" cy="2143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http://im2-tub-ru.yandex.net/i?id=f75401613d1c3b978a6a4d0acaa05b39-15-144&amp;n=21"/>
          <p:cNvPicPr/>
          <p:nvPr/>
        </p:nvPicPr>
        <p:blipFill>
          <a:blip r:embed="rId4"/>
          <a:stretch/>
        </p:blipFill>
        <p:spPr>
          <a:xfrm>
            <a:off x="4286160" y="23572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http://im0-tub-ru.yandex.net/i?id=1e9eb08325368eabb71add4ce5117c55-37-144&amp;n=21"/>
          <p:cNvPicPr/>
          <p:nvPr/>
        </p:nvPicPr>
        <p:blipFill>
          <a:blip r:embed="rId5"/>
          <a:stretch/>
        </p:blipFill>
        <p:spPr>
          <a:xfrm>
            <a:off x="357120" y="1214280"/>
            <a:ext cx="3786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ольвычегодс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5" descr="Картинка 16 из 4470"/>
          <p:cNvPicPr/>
          <p:nvPr/>
        </p:nvPicPr>
        <p:blipFill>
          <a:blip r:embed="rId1"/>
          <a:stretch/>
        </p:blipFill>
        <p:spPr>
          <a:xfrm>
            <a:off x="395280" y="1484280"/>
            <a:ext cx="8569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21:24:27Z</dcterms:created>
  <dc:creator>Пользователь</dc:creator>
  <dc:description/>
  <dc:language>en-US</dc:language>
  <cp:lastModifiedBy>Пользователь</cp:lastModifiedBy>
  <dcterms:modified xsi:type="dcterms:W3CDTF">2004-01-28T07:28:15Z</dcterms:modified>
  <cp:revision>4</cp:revision>
  <dc:subject/>
  <dc:title>Это наша земля!</dc:title>
</cp:coreProperties>
</file>