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78E6-3B38-4C41-9D50-3650B3BB5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4537-039B-454F-BFB8-D25FDF7D4E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1D1-A570-4FF2-AFF8-FFA6D294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C67-41E1-4B67-8DA9-494F687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F26-3D5B-402B-919E-9657E5B5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9AA-08D5-45AB-BC82-2F463C50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2311E-A013-4F1B-B5F5-64E728CB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CC3B0-4670-4BBA-805E-15D82E99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F0D4-1BB0-4506-83B5-A1D59288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D372E-CF28-4861-B749-FEC43031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E707-DD5C-47F2-A61F-99A9FDE9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1C88F-B1DF-4007-8BD2-F13420B7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2954A-B42C-4C6A-91A5-5C98BEE2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2D7-A551-499C-A47E-2109E88A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080A2-E61F-47C1-8DAB-D6114645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44590-15EF-407E-9FA0-25B4661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7803B-60F6-4409-BE96-E05B2B1D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51421-751E-4833-BD25-676E52C9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2456E-01B5-4AEB-B6EF-1FABAA1E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74BCC-13F9-4E23-B5F5-56C294E5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4818F-481B-474F-A167-674F9513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7CC4E-0E46-449D-92D2-70FFE94B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837E5-744D-42F2-8D8D-E0E4F8D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9EE07-A0F6-4858-AF58-DD66BC0B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A6A-50E2-4780-8F9B-485E092D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3275B-A6DE-4E79-B9AF-725A8D2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05A4A-11A8-477E-8534-A8BBBFFA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269E2-AC16-4728-91B8-D6D1BD7A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28646-A97C-486A-BE24-4F3AEA9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44086-40BA-404B-95DF-0CE6BF37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5301D-736A-418D-AF3D-E1E8F167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00B7A-E49D-409B-AF54-5F0BE278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B80-8F9A-4D8E-956E-E4B9F072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B5A-95E2-4557-87C9-F5DB9A27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310-852C-4B48-9DF9-C6DF02FE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A87-0D10-4001-A512-2E1DCDC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A34-B768-4E36-B146-BA0A85E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BC2-5BA6-44CF-B0B8-F471E1DE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F570-014D-42BB-8766-C4FD5E8BE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EDD6-CB68-48A4-A7E9-645B026D8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7E52-AA60-45AF-BDE2-37F4B7B29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PICT000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71600" y="285840"/>
            <a:ext cx="461484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Это наша земля!</a:t>
            </a:r>
            <a:br>
              <a:rPr sz="8600"/>
            </a:b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а учитель географ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МОУ «СОШ №7 г. Коряжм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Гладкова Татьяна Алексее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00280" y="213840"/>
            <a:ext cx="5143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57760" y="1981080"/>
            <a:ext cx="482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ркадий Гайдар – автор «Тимура и его команды» жил в Архангельске, был главным редактором газеты «Волна» (Правда Север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57120" y="1981080"/>
            <a:ext cx="47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ёдор Абрамов – писатель, родился в деревне Веркола Пинежского района Архангель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071600" y="1981080"/>
            <a:ext cx="4614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тепан Писахов – известный северный писатель - сказоч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48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ис Шергин – известный писатель фольлорист, сказоч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29040" y="198108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иколай Рубцов – известный пис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28400" y="1500120"/>
            <a:ext cx="46767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вятослав Николаевич Фёдоров – врач-офтальмолог работал в Архангель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Здесь вам не равнина, здесь климат другой…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Содержимое 4" descr="elagin_s1.jpg"/>
          <p:cNvPicPr/>
          <p:nvPr/>
        </p:nvPicPr>
        <p:blipFill>
          <a:blip r:embed="rId1"/>
          <a:stretch/>
        </p:blipFill>
        <p:spPr>
          <a:xfrm>
            <a:off x="357120" y="1714680"/>
            <a:ext cx="4143600" cy="4929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Александр Елагин – руководитель антарктической станции «Восто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Губернатор Архангельской обла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Илья Александрович Ор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PICT0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Это наша земл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140000" y="1981080"/>
            <a:ext cx="500364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5 марта 1584 года царь Иоанн 4 Гроз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риказал заложить город на берегу реки Северной Двины  «круг     Архангельского монастыр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313240" y="1981080"/>
            <a:ext cx="331632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7120" y="1981080"/>
            <a:ext cx="47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ётр 1 трижды был в Архангельске, учился строить корабли, следил за развитием морской торговли через Архангель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357440" y="1981080"/>
            <a:ext cx="43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Брауншвейгское семейство находилось в ссылке в Холмого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481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емён Иванович Дежнёв родился в деревне Осиновской Великопинежской волости Двинского уез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000320" y="1981080"/>
            <a:ext cx="468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асилий Яковлевич Чичагов – командир Архангельского порта, возглавил экспедиции на Камчатку и к берегам Северной Амер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481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вятой Иоанн Крондштадтский, родился в селе Сура Пинежского уезда Архангельской губер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29040" y="198108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лександр Степанович Кучин, родился в селе Кушерске Онежского уезда Архангельской губернии, участвовал в экспедиции Руаля Амундсена к Южному полюс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63640" y="457200"/>
            <a:ext cx="6985080" cy="12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5584680" y="1981080"/>
            <a:ext cx="2773440" cy="41148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8400" y="1981080"/>
            <a:ext cx="46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лександр Грин – автор «Алых парусов» был в ссылке в Архангельской губер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2:24:43Z</dcterms:created>
  <dc:creator>Пользователь</dc:creator>
  <dc:description/>
  <dc:language>en-US</dc:language>
  <cp:lastModifiedBy>Пользователь</cp:lastModifiedBy>
  <dcterms:modified xsi:type="dcterms:W3CDTF">2004-01-28T07:26:44Z</dcterms:modified>
  <cp:revision>11</cp:revision>
  <dc:subject/>
  <dc:title>Слайд 1</dc:title>
</cp:coreProperties>
</file>