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B6D0-C866-4431-BDE3-E007271894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A9FB-408E-45EC-BE9D-969D5C2EBD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1147-55FA-4206-90C6-614BA6B28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39DA-234B-410E-A877-A5A156AD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DB11-BBA7-4468-87EE-E2C56783A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86D0-F532-4988-8674-DDB547C23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82BF-E0A3-4A19-A3D5-F27342F67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5A3A-CF3E-4E8D-9AE6-C12AE02A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28A3-E7BC-4118-B3F8-FDEB485C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49AA-2344-4A15-B091-1036E44E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2403-8792-4A15-A466-A2D263C9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7710-E90F-422D-A6D2-1EF9D0F0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C351-B668-4DC9-8C1B-E5F0143D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4E23-404B-44E2-8074-BAD2EB19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706A-A6AD-4F76-8F6B-F53CDE99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42A7-9527-40C2-A11D-D7452C6A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A4CA-10F4-4247-810C-02AC818B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F561-3097-4F9C-B15E-7BAB420C5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F473-D002-47C1-8BDA-DD4C29D92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6FE6-81C7-4D6E-B14F-01020601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F87A-0B25-466D-B49F-CEB6D3B8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52D6-CBA5-4087-8F00-11848905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7FC3-4E0A-4BA6-852B-37F13EFA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2B80-5AB0-4DF6-A1A7-667F8B82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C6FE-A88E-4A1F-9734-DF1A5C2C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F994-2FA8-40F3-958B-597A63FF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AAD0-905C-4D99-9B03-BEA9770583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9724-9375-4447-B354-603BA9A397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PICT0002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71600" y="285480"/>
            <a:ext cx="4614840" cy="635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600" spc="-1" strike="noStrike">
                <a:solidFill>
                  <a:srgbClr val="c00000"/>
                </a:solidFill>
                <a:latin typeface="Calibri"/>
              </a:rPr>
              <a:t>Это наша земля!</a:t>
            </a:r>
            <a:br>
              <a:rPr sz="8600"/>
            </a:br>
            <a:r>
              <a:rPr b="1" lang="ru-RU" sz="8600" spc="-1" strike="noStrike">
                <a:solidFill>
                  <a:srgbClr val="c00000"/>
                </a:solidFill>
                <a:latin typeface="Calibri"/>
              </a:rPr>
              <a:t>    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дготовила учитель географи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МОУ «СОШ №7 г. Коряжмы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Гладкова Татьяна Алексеевн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500280" y="213840"/>
            <a:ext cx="514368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Times New Roman"/>
              </a:rPr>
              <a:t>Прекрасна наша земля  зимой!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Картинка 2 из 118640"/>
          <p:cNvPicPr/>
          <p:nvPr/>
        </p:nvPicPr>
        <p:blipFill>
          <a:blip r:embed="rId1"/>
          <a:stretch/>
        </p:blipFill>
        <p:spPr>
          <a:xfrm>
            <a:off x="468360" y="1557360"/>
            <a:ext cx="4032360" cy="49672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4" descr="Картинка 59 из 119213"/>
          <p:cNvPicPr/>
          <p:nvPr/>
        </p:nvPicPr>
        <p:blipFill>
          <a:blip r:embed="rId2"/>
          <a:stretch/>
        </p:blipFill>
        <p:spPr>
          <a:xfrm>
            <a:off x="4572000" y="1557360"/>
            <a:ext cx="4156200" cy="49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32968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Наша область – самая большая в европейской части Росс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1285920"/>
            <a:ext cx="4281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ощадь -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587,4 тыс.  км²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том числе Ненецкого автономного округа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176,7 тыс. км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селение примерн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12 млн. человек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ля сравнения: площадь Франции – 544 тыс. км²  и проживает примерно  55 млн.челове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D:\Документы!!\арх обл\map.gif"/>
          <p:cNvPicPr/>
          <p:nvPr/>
        </p:nvPicPr>
        <p:blipFill>
          <a:blip r:embed="rId1"/>
          <a:stretch/>
        </p:blipFill>
        <p:spPr>
          <a:xfrm>
            <a:off x="285840" y="1500120"/>
            <a:ext cx="43574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PICT0025-24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Наше родное море - Белое.</a:t>
            </a: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Свои моря – Баренцево и Карское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Все они принадлежат «Студёному морю»- Северному Ледовитому океан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4129200" cy="139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Архипелаг                                                          Новая Земля  - наш!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214200"/>
            <a:ext cx="403848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Земля Франца Иосифа – тоже относится к нашей обла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мните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- на нашей территории находится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еверная островная точка Росси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мыс Флигели,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что на острове Рудольфа в этом архипелаг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8" descr="Картинка 54 из 203291"/>
          <p:cNvPicPr/>
          <p:nvPr/>
        </p:nvPicPr>
        <p:blipFill>
          <a:blip r:embed="rId1"/>
          <a:stretch/>
        </p:blipFill>
        <p:spPr>
          <a:xfrm>
            <a:off x="324000" y="1557360"/>
            <a:ext cx="417672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конференция 2007 038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6840" y="214200"/>
            <a:ext cx="81471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Наша родная река – </a:t>
            </a:r>
            <a:r>
              <a:rPr b="1" lang="ru-RU" sz="3300" spc="-1" strike="noStrike">
                <a:solidFill>
                  <a:srgbClr val="c00000"/>
                </a:solidFill>
                <a:latin typeface="Calibri"/>
              </a:rPr>
              <a:t>Северная Двина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Сухона + Юг = Малая Северная Двина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+ Вычегда = Большая Северная Двина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Левый приток – </a:t>
            </a:r>
            <a:r>
              <a:rPr b="1" lang="ru-RU" sz="3300" spc="-1" strike="noStrike">
                <a:solidFill>
                  <a:srgbClr val="c00000"/>
                </a:solidFill>
                <a:latin typeface="Calibri"/>
              </a:rPr>
              <a:t>Вага</a:t>
            </a: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правый приток – </a:t>
            </a:r>
            <a:r>
              <a:rPr b="1" lang="ru-RU" sz="3300" spc="-1" strike="noStrike">
                <a:solidFill>
                  <a:srgbClr val="c00000"/>
                </a:solidFill>
                <a:latin typeface="Calibri"/>
              </a:rPr>
              <a:t>Пинега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А ещё у нас есть </a:t>
            </a:r>
            <a:r>
              <a:rPr b="1" lang="ru-RU" sz="3300" spc="-1" strike="noStrike">
                <a:solidFill>
                  <a:srgbClr val="c00000"/>
                </a:solidFill>
                <a:latin typeface="Calibri"/>
              </a:rPr>
              <a:t>Онега, Мезень и Печора</a:t>
            </a: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8" descr="_жемчужина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6840" y="285480"/>
            <a:ext cx="821844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У нас более 224 тысяч озер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амое большое наше озеро -  </a:t>
            </a:r>
            <a:r>
              <a:rPr b="1" lang="ru-RU" sz="3000" spc="-1" strike="noStrike">
                <a:solidFill>
                  <a:srgbClr val="7030a0"/>
                </a:solidFill>
                <a:latin typeface="Calibri"/>
              </a:rPr>
              <a:t>Лача,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334 км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Его длина 32,5 км, ширина 13, 5 к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амое глубокое у нас – </a:t>
            </a:r>
            <a:r>
              <a:rPr b="1" lang="ru-RU" sz="3000" spc="-1" strike="noStrike">
                <a:solidFill>
                  <a:srgbClr val="7030a0"/>
                </a:solidFill>
                <a:latin typeface="Calibri"/>
              </a:rPr>
              <a:t>Кенозер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Его глубина достигает 68, 3 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Times New Roman"/>
              </a:rPr>
              <a:t>Прекрасна наша земля летом!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10" descr="Картинка 63 из 119213"/>
          <p:cNvPicPr/>
          <p:nvPr/>
        </p:nvPicPr>
        <p:blipFill>
          <a:blip r:embed="rId1"/>
          <a:stretch/>
        </p:blipFill>
        <p:spPr>
          <a:xfrm>
            <a:off x="468360" y="1557360"/>
            <a:ext cx="4032360" cy="4896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Картинка 105 из 119213"/>
          <p:cNvPicPr/>
          <p:nvPr/>
        </p:nvPicPr>
        <p:blipFill>
          <a:blip r:embed="rId2"/>
          <a:stretch/>
        </p:blipFill>
        <p:spPr>
          <a:xfrm>
            <a:off x="4643280" y="1557360"/>
            <a:ext cx="4259520" cy="48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PICT02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8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7030a0"/>
                </a:solidFill>
                <a:latin typeface="Calibri"/>
              </a:rPr>
              <a:t>Это наша земля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0T20:01:30Z</dcterms:created>
  <dc:creator>Пользователь</dc:creator>
  <dc:description/>
  <dc:language>en-US</dc:language>
  <cp:lastModifiedBy>Пользователь</cp:lastModifiedBy>
  <dcterms:modified xsi:type="dcterms:W3CDTF">2004-01-28T07:27:11Z</dcterms:modified>
  <cp:revision>9</cp:revision>
  <dc:subject/>
  <dc:title>Слайд 1</dc:title>
</cp:coreProperties>
</file>