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CFEB-B39B-4A2B-8BE7-8D16F341E8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394-FC5C-4A89-8296-52095E7EC7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69E-478A-4585-B8D6-9D2EC179BE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4BC6-39C3-453A-9252-BBD2C48567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064-10E5-4C65-AEEB-A01D17EC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F23-8AD4-4819-905D-96609B27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075-F251-4699-836B-BD8E4576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DBE-7A88-4753-92B3-4D628BAF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202D-4AF3-4FF7-B1E3-6E7126FD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A8E4-CAC8-4763-B0A5-B759CA14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8E39-673A-4F11-859C-4986EFD6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EDE-3719-4573-BA0F-DF2B89FD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E19-2F39-4F99-86A9-4E5A2EC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7E28-65D9-4B1A-B571-3566681A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216A-985C-4893-A165-DE4BFFC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CB1-08A6-4EDE-97E6-0079F4D6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68A2-C487-47C2-B9C8-85DD203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6B9F-8516-44FE-8B55-AFD37955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04D6-BF65-4304-9B3C-5826242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C80D-47F2-48DD-8DE3-BA42A07A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D588-91A2-4908-912B-5D845A70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223-6319-41AB-B194-E1815B7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708-6D5B-4CED-A63A-7508676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C4C-734E-4745-9DA1-F6B2A25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B12-A53B-4AEF-B402-6BD0C09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948-820F-4E64-8A70-1166E977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13C-2725-403F-B51C-30AFB3A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32C-B9E8-4189-A354-D270760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BFA2-8BE6-4336-8542-A5228B8A0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1F2B-61A6-471C-B52E-E9CF84380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PICT000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71600" y="285840"/>
            <a:ext cx="4614840" cy="62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Это наша земля!</a:t>
            </a:r>
            <a:br>
              <a:rPr sz="8600"/>
            </a:b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     </a:t>
            </a:r>
            <a:br>
              <a:rPr sz="1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а учитель географ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МОУ «СОШ №7 г. Коряж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Гладкова Татьяна Алексее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0280" y="213840"/>
            <a:ext cx="5143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T0028-27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42600" y="285840"/>
            <a:ext cx="80326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рхангельская область образована   Указом Президиума Верховного Совета СССР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3 сентября 1937 г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40480" y="1012680"/>
            <a:ext cx="3292560" cy="43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ерб нашей области является её официальным симво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C:\Users\KM\Documents\школа\Новая папка (3)\символы России\herb.gif"/>
          <p:cNvPicPr/>
          <p:nvPr/>
        </p:nvPicPr>
        <p:blipFill>
          <a:blip r:embed="rId1"/>
          <a:stretch/>
        </p:blipFill>
        <p:spPr>
          <a:xfrm>
            <a:off x="214200" y="281160"/>
            <a:ext cx="522612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:\Users\KM\Documents\школа\Новая папка (3)\символы России\herb.gif"/>
          <p:cNvPicPr/>
          <p:nvPr/>
        </p:nvPicPr>
        <p:blipFill>
          <a:blip r:embed="rId1"/>
          <a:stretch/>
        </p:blipFill>
        <p:spPr>
          <a:xfrm>
            <a:off x="6769080" y="318960"/>
            <a:ext cx="2076480" cy="244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14200" y="285840"/>
            <a:ext cx="862020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обозначает наш гер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рхангел Михаил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вождь небес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инства, небесный покров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хангельской обла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гел тьм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виновник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льщения, враж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олото гербового пол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мволизир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ятость, изобилие, могущество, великодуш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рвлень (красный свет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мволизирует власть и муже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азурь (синий, голубой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символ красоты, мягкости, велич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75080" y="352080"/>
            <a:ext cx="64562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мператорская корона -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ральдический знак высокого достоинства и власти. Императорская корона символизирует исторический государственный территориальный статус Архангельской област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олотые дубовые листь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знак воинской доблест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дреевская лен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орденская лента высшего ордена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KM\Documents\школа\Новая папка (3)\символы России\herb.gif"/>
          <p:cNvPicPr/>
          <p:nvPr/>
        </p:nvPicPr>
        <p:blipFill>
          <a:blip r:embed="rId1"/>
          <a:stretch/>
        </p:blipFill>
        <p:spPr>
          <a:xfrm>
            <a:off x="509760" y="361800"/>
            <a:ext cx="2076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Гимн Архангель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7520" y="857160"/>
            <a:ext cx="46148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й наш помор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гуч и прекрасен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го не забудешь вове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ят отваж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скрайние да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 не ступал челове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по Петров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ленью из мор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яд белокрыл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гатов восста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колыбелью Российского фл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й наш Архангельский ст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00400" y="856800"/>
            <a:ext cx="4143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Ломоно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ликий родилс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дростью мир освети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инные сказ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гадки прир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учную быль воплот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й наш помор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вижении и сил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му по плечу Новый век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смос, богат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убины морские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покорит человек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gimn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353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4840" y="274320"/>
            <a:ext cx="3460680" cy="62262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лаг Архангель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00440" y="352440"/>
            <a:ext cx="533088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2031"/>
                </a:solidFill>
                <a:latin typeface="Calibri"/>
              </a:rPr>
              <a:t>Дата принятия: 23.09.200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2031"/>
                </a:solidFill>
                <a:latin typeface="Calibri"/>
              </a:rPr>
              <a:t>Областной закон "О флаге Архангельской области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2031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122031"/>
                </a:solidFill>
                <a:latin typeface="Calibri"/>
              </a:rPr>
              <a:t>N 56-5-О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пис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лаг нашей области белый с лазоревым диагональным крестом. В центре креста – изображение герба  нашей области в многоцветном варианте со специальными почетными элементами, окружающими щ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KM\Documents\школа\Новая папка (3)\символы России\arkhangelsk2009_obl_fl_n1596.gif"/>
          <p:cNvPicPr/>
          <p:nvPr/>
        </p:nvPicPr>
        <p:blipFill>
          <a:blip r:embed="rId1"/>
          <a:stretch/>
        </p:blipFill>
        <p:spPr>
          <a:xfrm>
            <a:off x="357120" y="500040"/>
            <a:ext cx="3232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ICT0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Это наша земл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1:06:02Z</dcterms:created>
  <dc:creator>Пользователь</dc:creator>
  <dc:description/>
  <dc:language>en-US</dc:language>
  <cp:lastModifiedBy>Пользователь</cp:lastModifiedBy>
  <dcterms:modified xsi:type="dcterms:W3CDTF">2004-01-28T07:27:40Z</dcterms:modified>
  <cp:revision>4</cp:revision>
  <dc:subject/>
  <dc:title>Слайд 1</dc:title>
</cp:coreProperties>
</file>