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7ADB-85E3-443D-95B9-40D0487B79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0E7D-8E40-4169-AA32-7B40DF343B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570-A6ED-4DF8-8B30-EDF97E91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B72-9E90-41F3-96BE-6A8EB9DD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BE5-9336-4AA6-ACF2-9907308C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479-8C3E-438E-90BE-DD0C8609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FA0-919A-498C-B75C-150B1647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4DE-EA4E-41F1-AB01-BF78D1FA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0E9-732A-4044-B996-05EEA4BD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E52-FF86-4F6B-9836-903DB9C4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635-77A0-4819-8D7B-50F0DBF9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B87-3036-4EAC-A167-991A2E59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447-08B4-4FAF-9912-7E7701DC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AA5-C1FF-4D0A-B31D-CAFD5339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EFFC-1E5A-4D35-AAE5-C9E3607DD9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ICT000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71600" y="285480"/>
            <a:ext cx="46148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Calibri"/>
              </a:rPr>
              <a:t>Это наша земля!</a:t>
            </a:r>
            <a:br>
              <a:rPr sz="9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ила учитель географ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МОУ «СОШ №7 г. Коряжм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Гладкова Татьяна Алексее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00280" y="213840"/>
            <a:ext cx="51436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14200" y="147240"/>
            <a:ext cx="84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ро нас знают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оловецкий монастырь играл главную роль в колонизации сев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артинка 2 из 17223"/>
          <p:cNvPicPr/>
          <p:nvPr/>
        </p:nvPicPr>
        <p:blipFill>
          <a:blip r:embed="rId1"/>
          <a:stretch/>
        </p:blipFill>
        <p:spPr>
          <a:xfrm>
            <a:off x="500040" y="1571760"/>
            <a:ext cx="8207280" cy="49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о нас знают …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иболее известный наш земля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2071440"/>
            <a:ext cx="4281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Михаил Васильевич Ломоносов – сам был первым российским университето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42865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о нас знают …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иболее часто посещ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00720" y="2286000"/>
            <a:ext cx="4038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Архангельский государственный музей деревянного зодчества и народного искусства – Малые Карел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610046"/>
          <p:cNvPicPr/>
          <p:nvPr/>
        </p:nvPicPr>
        <p:blipFill>
          <a:blip r:embed="rId1"/>
          <a:stretch/>
        </p:blipFill>
        <p:spPr>
          <a:xfrm>
            <a:off x="0" y="214200"/>
            <a:ext cx="4429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Про нас знают ….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Наиболее известная рыба Поморь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4920" y="171468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сёмга   и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атлантический лосось  ил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северный лосос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4038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о нас знают …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еверные яг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Клюква, брусника, черника, морошка – наиболее любимые ягоды северя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2952720" cy="221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28840" y="2000160"/>
            <a:ext cx="3039840" cy="229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285840" y="4143240"/>
            <a:ext cx="30416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Про нас знают ….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Наиболее покупаемый сувенир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Щепная птица или птица счастья - сувенир Архангельского государственного музея деревянного зодчества и народного искус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14200" y="285840"/>
            <a:ext cx="4281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ICT0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Calibri"/>
              </a:rPr>
              <a:t>Это наша земля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1:29:45Z</dcterms:created>
  <dc:creator>Пользователь</dc:creator>
  <dc:description/>
  <dc:language>en-US</dc:language>
  <cp:lastModifiedBy>Пользователь</cp:lastModifiedBy>
  <dcterms:modified xsi:type="dcterms:W3CDTF">2004-01-28T07:22:57Z</dcterms:modified>
  <cp:revision>5</cp:revision>
  <dc:subject/>
  <dc:title>Слайд 1</dc:title>
</cp:coreProperties>
</file>