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5403-56A1-48EC-9A89-3DBC58940E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8D27-87B7-4A8D-B8E5-F3F4A95F83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142A-349B-4AAD-975C-CC23A9A3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DF58-E1EF-4892-AE80-B923E712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8AF-7EA3-45D8-9010-25C0D172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B131-C058-4E80-9A31-F377B935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140A-6B29-444A-B7CD-AEB0608A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DDB2-9685-4CC9-98CC-3DA7A8AB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4B9F-68E9-4BCD-A601-90BAD4A9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B6B2-6B70-4A13-954A-3866F523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58FD-B085-4124-8494-78BB2401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9D44-63FC-4A51-8F1B-C6F8D2AA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934A-2CA9-4AEA-AE67-79BCABC3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DF6D-F03A-4C6B-A524-0BDE6FAD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0DFC-79ED-415A-B60E-EE86DCD3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B984-BDDB-42FD-B880-55391C9C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18D7-DC45-4FDB-BB3E-995BB15E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A688-5C86-4276-B05F-35518C6A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6375-062F-462D-B2FA-D7D24371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454-5CFB-4FF8-B352-7EFDC2F5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4EA2-B979-4CA5-B751-B1AB787D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7FD4-6E55-40BA-B16F-F7137CCC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286-F494-439E-9C98-664D4E80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5EB2-71D0-4662-9B0D-D63DEA8F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A903-8B83-4793-94FD-2686BC82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4D8-E412-408A-BC51-C3A115FC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7BD7-7C7B-4264-8DBC-3DEA006276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46DF-099C-4BDC-8099-EDE5D4D736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PICT0002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71600" y="285480"/>
            <a:ext cx="461484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c00000"/>
                </a:solidFill>
                <a:latin typeface="Calibri"/>
              </a:rPr>
              <a:t>Это наша земля!</a:t>
            </a:r>
            <a:br>
              <a:rPr sz="8600"/>
            </a:br>
            <a:r>
              <a:rPr b="1" lang="ru-RU" sz="8600" spc="-1" strike="noStrike">
                <a:solidFill>
                  <a:srgbClr val="c00000"/>
                </a:solidFill>
                <a:latin typeface="Calibri"/>
              </a:rPr>
              <a:t>        </a:t>
            </a:r>
            <a:br>
              <a:rPr sz="1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дготовила учитель географ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МОУ «СОШ №7 г. Коряжмы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Гладкова Татьяна Алексеевна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00280" y="213840"/>
            <a:ext cx="51436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PICT02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7030a0"/>
                </a:solidFill>
                <a:latin typeface="Calibri"/>
              </a:rPr>
              <a:t>Это наша земля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PICT0369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720" y="274320"/>
            <a:ext cx="425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 100 км севернее Архангельска на территории Приморского и Мезенского районов находятся крупнейшие в Европе месторождения алмазов (месторождение им. М. В. Ломоносова)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D:\Документы!!\арх обл\i.jpeg2.jpe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643040" y="4500720"/>
            <a:ext cx="3119400" cy="2143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D:\Документы!!\арх обл\i.jpeg1.jpeg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1000080" y="2143080"/>
            <a:ext cx="3571920" cy="2571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D:\Документы!!\арх обл\2.jpeg"/>
          <p:cNvPicPr/>
          <p:nvPr/>
        </p:nvPicPr>
        <p:blipFill>
          <a:blip r:embed="rId4"/>
          <a:stretch/>
        </p:blipFill>
        <p:spPr>
          <a:xfrm>
            <a:off x="0" y="214200"/>
            <a:ext cx="34290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6" descr="Картинка 282 из 6350"/>
          <p:cNvPicPr/>
          <p:nvPr/>
        </p:nvPicPr>
        <p:blipFill>
          <a:blip r:embed="rId1"/>
          <a:stretch/>
        </p:blipFill>
        <p:spPr>
          <a:xfrm>
            <a:off x="4643280" y="357120"/>
            <a:ext cx="4321440" cy="63118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0" y="488880"/>
            <a:ext cx="47149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смодром "Плесецк" (1-й Государственный испытательный космодром) расположен в 180 км к югу от Архангельска недалеко от железнодорожной станции "Плесецк" СЖД. Располагаясь на платообразной и слегка холмистой равнине, он занимает площадь 1762 км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смодром Плесецк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D:\Документы!!\арх обл\kosmospl.jpg"/>
          <p:cNvPicPr/>
          <p:nvPr/>
        </p:nvPicPr>
        <p:blipFill>
          <a:blip r:embed="rId1"/>
          <a:stretch/>
        </p:blipFill>
        <p:spPr>
          <a:xfrm>
            <a:off x="1000080" y="0"/>
            <a:ext cx="821052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Документы!!\арх обл\molniya.jpg"/>
          <p:cNvPicPr/>
          <p:nvPr/>
        </p:nvPicPr>
        <p:blipFill>
          <a:blip r:embed="rId2"/>
          <a:stretch/>
        </p:blipFill>
        <p:spPr>
          <a:xfrm>
            <a:off x="785880" y="0"/>
            <a:ext cx="857232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D:\Документы!!\арх обл\80765289.jpg"/>
          <p:cNvPicPr/>
          <p:nvPr/>
        </p:nvPicPr>
        <p:blipFill>
          <a:blip r:embed="rId3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рхангельский ЦБК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D:\Документы!!\арх обл\appm 1 tMediumt.jpg"/>
          <p:cNvPicPr/>
          <p:nvPr/>
        </p:nvPicPr>
        <p:blipFill>
          <a:blip r:embed="rId1"/>
          <a:stretch/>
        </p:blipFill>
        <p:spPr>
          <a:xfrm>
            <a:off x="1000080" y="0"/>
            <a:ext cx="81914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D:\Документы!!\арх обл\cbk.jpg"/>
          <p:cNvPicPr/>
          <p:nvPr/>
        </p:nvPicPr>
        <p:blipFill>
          <a:blip r:embed="rId2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43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сновные виды выпускаемой прод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13840" y="1599840"/>
            <a:ext cx="4281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ревесина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руглые пиломатериалы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целлюлоза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ума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рто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В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С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48320" y="214200"/>
            <a:ext cx="42814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ыболов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4853160" y="357120"/>
            <a:ext cx="4076640" cy="6072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457200" y="1857240"/>
            <a:ext cx="403848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4328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ОП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7960" y="1600200"/>
            <a:ext cx="42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роизводство и ремонт военных судов и подводных лодо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одержимое 6" descr="164558_original.jpg"/>
          <p:cNvPicPr/>
          <p:nvPr/>
        </p:nvPicPr>
        <p:blipFill>
          <a:blip r:embed="rId1"/>
          <a:stretch/>
        </p:blipFill>
        <p:spPr>
          <a:xfrm>
            <a:off x="214200" y="357120"/>
            <a:ext cx="42865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У нас ест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071360"/>
            <a:ext cx="91440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разломное месторождение нефти и г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вероонежское месторождение бокси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упнейшее в стране Звозское месторождение гипса, известняков и ангидрид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ногочисленные солевые источн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юге области — в Сольвычегодске, Коряжме, Шангалах — залегают пласты каменной соли мощностью до 16 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Calibri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Новой Земле разведаны месторождения марганцевых и полиметаллических ру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Calibri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вестны месторождения строительных материалов, огнеупоров, красящих гл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21:52:05Z</dcterms:created>
  <dc:creator>Пользователь</dc:creator>
  <dc:description/>
  <dc:language>en-US</dc:language>
  <cp:lastModifiedBy>Пользователь</cp:lastModifiedBy>
  <dcterms:modified xsi:type="dcterms:W3CDTF">2004-01-28T07:24:18Z</dcterms:modified>
  <cp:revision>4</cp:revision>
  <dc:subject/>
  <dc:title>Слайд 1</dc:title>
</cp:coreProperties>
</file>